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A848-8B61-4397-B5BF-0E4B180B7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51CA-B568-40AF-9BCF-1AE223D0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E92E-49A3-4701-A1AD-EB81DC602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9922-4861-41CC-8D44-29EC41208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DFB0-3866-4FF5-9E23-472DABD6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E1C0-09B2-457A-9EB9-625CF829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AB76-4B63-4D15-AA52-2F81A86C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4290-E33A-4F0D-9697-5FAE5040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26B0-ABB6-441C-8B2D-F66B438B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87F6-2158-4550-AD19-10E1267A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2EFF-C6F2-499E-89D2-359A0516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2C7D-7B66-40BE-92C1-8F5EFA68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4055-CECF-4706-856E-35B2ABB4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738B-C7AC-47E9-85F7-9F3005C8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368B-E147-4579-81D7-AF607020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F3FD-48C5-4107-96F7-A31377B6B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F49B-E802-442E-BA75-5854DDE4E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DBB4A-E438-4A30-B069-C2C0E64B6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A4CEC-A806-439F-BA3F-EF6D0B8A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7585D-B172-42F7-A4C5-EBB79928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63267-2853-4725-A382-BF62B73B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8F62B-C0A3-44AE-90D5-C32D3AF8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6E2B-D301-407E-AAE1-8B72782E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A0F55-4212-445F-9696-04FB6D99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81FF8-8432-4B95-8927-6BB8AE8B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56CB6-4D17-481A-BD1A-303AB064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18501-79FE-4693-A4A7-AC6C8DCD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203DD-ABEC-42BE-A482-E11FAF14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0B51A-4847-43F6-A0FF-0E6622849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48E35-02A5-48EE-901D-4595531BA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F1060-7A1F-495C-9360-AF289D918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05A5F-BFB1-43C1-9598-19AFA038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6E748-9177-4BB2-80D0-5DADF0F2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2312-4FA2-4840-A42C-F1A620A6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685F4-0E8C-42BC-9FFD-1049B3F3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8BA50-2937-4E3A-A38A-4D353E94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3F719-53B8-49A0-9E61-48E07060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C954A-22B5-49E8-AE86-F858F903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23675-8C51-4078-A92D-AB2578A7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6065E-1139-44E3-96C6-F73D366B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17B39-1255-4BF7-8B7D-A0537414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96E8B-82C3-481A-B78B-2EE513EB8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96C8F-BF08-462C-BCD0-22C8704C4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C523-1D41-41D2-9888-E977EA4C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605C-057B-4E09-9FA5-1726A280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4707-96CF-4A71-AD83-9E091D91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9E4D-B88D-4A88-8156-83A035C1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302C-A4CA-4E3F-A056-BE6832A5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0141-0C5C-48E5-A2A2-F26F45A16DB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E39E-3CE2-4D05-B0E9-B4F133FD8B1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0A11-F94F-4EB1-A959-67382F7DB52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EEFD-D0B8-4C24-A1E6-B453E3149C0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291960" y="974880"/>
            <a:ext cx="8242560" cy="25113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24000" y="4005360"/>
            <a:ext cx="8642160" cy="1125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Учитель физики МБОУ «СОШ № 2 с УИОП» г.Лысьв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Фаткуллина Гульнара Аухатовн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2"/>
          <a:srcRect l="3295" t="3907" r="22035" b="18947"/>
          <a:stretch/>
        </p:blipFill>
        <p:spPr>
          <a:xfrm>
            <a:off x="642960" y="1857240"/>
            <a:ext cx="75024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Демоверсии, спецификации, кодификаторы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Формулы по физике 7-9 классы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Краткий справочный материал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493560" y="493560"/>
            <a:ext cx="7864560" cy="10242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33160" y="1844640"/>
            <a:ext cx="7854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с «ГИА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2"/>
          <a:srcRect l="0" t="10743" r="24232" b="23829"/>
          <a:stretch/>
        </p:blipFill>
        <p:spPr>
          <a:xfrm>
            <a:off x="168120" y="1928880"/>
            <a:ext cx="89758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530280" y="755640"/>
            <a:ext cx="7864560" cy="11034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533160" y="2060640"/>
            <a:ext cx="7854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2"/>
          <a:stretch/>
        </p:blipFill>
        <p:spPr>
          <a:xfrm>
            <a:off x="971640" y="1989000"/>
            <a:ext cx="71294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530280" y="755640"/>
            <a:ext cx="7864560" cy="11034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533160" y="2060640"/>
            <a:ext cx="7854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900000" y="1989000"/>
            <a:ext cx="6480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пробаци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1806480" y="1935000"/>
            <a:ext cx="55310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Рисунок 6" descr=""/>
          <p:cNvPicPr/>
          <p:nvPr/>
        </p:nvPicPr>
        <p:blipFill>
          <a:blip r:embed="rId1"/>
          <a:stretch/>
        </p:blipFill>
        <p:spPr>
          <a:xfrm>
            <a:off x="576360" y="1052640"/>
            <a:ext cx="8099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ем обусловлен выбор курс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готовка к итоговой аттестации должна носить системный характер. По каждой теме необходимо дать краткий справочник - конспект (основные определения, формулы, законы и пр.), примеры с решениями, тренировочные упражнения (на базовом и повышенном уровнях) и тест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блем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неумение выполнять операции с переводом единиц  измерен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низкий процент верно решивших количественные и качественные задачи, а большинство вообще не приступали к решению этих задач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проблемы оформления решений в заданиях с развернутым ответом: многословность пояснения очевидных фактов, небрежность работы с формулами, ошибки при математических расчета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21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можности  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Google Form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395280" y="114300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ю данного сервиса возможн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анкетирование учеников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тестирование учеников для контроля и проверки их знаний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 обработать результаты анкетирования или тестировани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Достоинства </a:t>
            </a: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Google Classroom</a:t>
            </a:r>
            <a:r>
              <a:rPr b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560" y="1125360"/>
            <a:ext cx="8497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правильности выполнения заданий осуществляется автоматическ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ость проверки знаний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увидеть сколько раз ученик выполнил данный тес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е создание тестов и разного числа вариантов, автоматическая генерация заданий. Исключается списывани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зменить задания, добавить свои зада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зможность группировать задания по темам, выкладывать информацию в любой форм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зможность ограничить доступ к работе по време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едостатк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 к сети Интернет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ПК каждому ученику на урок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каждого ученика обязатель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533160" y="2204640"/>
            <a:ext cx="7854840" cy="27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438120" y="182520"/>
            <a:ext cx="7888320" cy="1170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2"/>
          <a:srcRect l="11737" t="0" r="3038" b="18839"/>
          <a:stretch/>
        </p:blipFill>
        <p:spPr>
          <a:xfrm>
            <a:off x="0" y="1440000"/>
            <a:ext cx="9156600" cy="52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В самой структуре ОГЭ содержится указание на то, как можно выстроить подготовку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уществующий кодификатор позволяет разбить материал на несколько крупных тематических блоков, выстроив повторение по содержательным (механика, электричество, оптика, атомная физика и т.д.) линиям. Такой подход будет способствовать формированию более прочных знаний и, как следствие, более уверенному поведению выпускника на экзамене вне зависимости от того, в какой форме экзамен будет проводить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водное занят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еханически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пловы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лектромагнитны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изика атома и атомного ядр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5T02:54:54Z</dcterms:created>
  <dc:creator>Лиля</dc:creator>
  <dc:description/>
  <dc:language>en-US</dc:language>
  <cp:lastModifiedBy>User</cp:lastModifiedBy>
  <dcterms:modified xsi:type="dcterms:W3CDTF">2021-11-23T19:29:51Z</dcterms:modified>
  <cp:revision>50</cp:revision>
  <dc:subject/>
  <dc:title>Использование сервиса Google Forms для организации контроля знаний обучающихся</dc:title>
</cp:coreProperties>
</file>